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EEJMA VESPERTINO</a:t>
            </a:r>
          </a:p>
        </c:rich>
      </c:tx>
      <c:layout>
        <c:manualLayout>
          <c:xMode val="edge"/>
          <c:yMode val="edge"/>
          <c:x val="0.430691969245811"/>
          <c:y val="0.01974753155855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7679040119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4</c:v>
                </c:pt>
                <c:pt idx="3">
                  <c:v>0</c:v>
                </c:pt>
                <c:pt idx="4">
                  <c:v>0</c:v>
                </c:pt>
                <c:pt idx="5">
                  <c:v>4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</c:v>
                </c:pt>
                <c:pt idx="1">
                  <c:v>1.33333333333333</c:v>
                </c:pt>
                <c:pt idx="2">
                  <c:v>4</c:v>
                </c:pt>
                <c:pt idx="3">
                  <c:v>4</c:v>
                </c:pt>
                <c:pt idx="4">
                  <c:v>1.33333333333333</c:v>
                </c:pt>
                <c:pt idx="5">
                  <c:v>1.33333333333333</c:v>
                </c:pt>
                <c:pt idx="6">
                  <c:v>0</c:v>
                </c:pt>
                <c:pt idx="7">
                  <c:v>1.3333333333333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.666666666666666</c:v>
                </c:pt>
              </c:numCache>
            </c:numRef>
          </c:val>
        </c:ser>
        <c:gapWidth val="100"/>
        <c:overlap val="0"/>
        <c:axId val="73617341"/>
        <c:axId val="40438182"/>
      </c:barChart>
      <c:catAx>
        <c:axId val="7361734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38182"/>
        <c:crossesAt val="0"/>
        <c:auto val="1"/>
        <c:lblAlgn val="ctr"/>
        <c:lblOffset val="100"/>
        <c:noMultiLvlLbl val="0"/>
      </c:catAx>
      <c:valAx>
        <c:axId val="40438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1734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EEJMA VESPERTINO</a:t>
            </a:r>
          </a:p>
        </c:rich>
      </c:tx>
      <c:layout>
        <c:manualLayout>
          <c:xMode val="edge"/>
          <c:yMode val="edge"/>
          <c:x val="0.430647526776588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23234595675541"/>
          <c:w val="0.959957335229545"/>
          <c:h val="0.85639295088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4</c:v>
                </c:pt>
                <c:pt idx="2">
                  <c:v>10</c:v>
                </c:pt>
                <c:pt idx="3">
                  <c:v>6</c:v>
                </c:pt>
                <c:pt idx="4">
                  <c:v>2</c:v>
                </c:pt>
                <c:pt idx="5">
                  <c:v>4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</c:v>
                </c:pt>
                <c:pt idx="1">
                  <c:v>3</c:v>
                </c:pt>
                <c:pt idx="2">
                  <c:v>9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5</c:v>
                </c:pt>
              </c:numCache>
            </c:numRef>
          </c:val>
        </c:ser>
        <c:gapWidth val="100"/>
        <c:overlap val="0"/>
        <c:axId val="82108773"/>
        <c:axId val="8405589"/>
      </c:barChart>
      <c:catAx>
        <c:axId val="821087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5589"/>
        <c:crossesAt val="0"/>
        <c:auto val="1"/>
        <c:lblAlgn val="ctr"/>
        <c:lblOffset val="100"/>
        <c:noMultiLvlLbl val="0"/>
      </c:catAx>
      <c:valAx>
        <c:axId val="8405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0877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EEJMA VESPERTINO</a:t>
            </a:r>
          </a:p>
        </c:rich>
      </c:tx>
      <c:layout>
        <c:manualLayout>
          <c:xMode val="edge"/>
          <c:yMode val="edge"/>
          <c:x val="0.417759210701747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36857892763405"/>
          <c:w val="0.959957335229545"/>
          <c:h val="0.8425196850393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4</c:v>
                </c:pt>
                <c:pt idx="2">
                  <c:v>6</c:v>
                </c:pt>
                <c:pt idx="3">
                  <c:v>0</c:v>
                </c:pt>
                <c:pt idx="4">
                  <c:v>2</c:v>
                </c:pt>
                <c:pt idx="5">
                  <c:v>8</c:v>
                </c:pt>
                <c:pt idx="6">
                  <c:v>0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</c:v>
                </c:pt>
                <c:pt idx="1">
                  <c:v>3</c:v>
                </c:pt>
                <c:pt idx="2">
                  <c:v>9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5</c:v>
                </c:pt>
              </c:numCache>
            </c:numRef>
          </c:val>
        </c:ser>
        <c:gapWidth val="100"/>
        <c:overlap val="0"/>
        <c:axId val="3448452"/>
        <c:axId val="84736317"/>
      </c:barChart>
      <c:catAx>
        <c:axId val="344845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36317"/>
        <c:crossesAt val="0"/>
        <c:auto val="1"/>
        <c:lblAlgn val="ctr"/>
        <c:lblOffset val="100"/>
        <c:noMultiLvlLbl val="0"/>
      </c:catAx>
      <c:valAx>
        <c:axId val="84736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845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107" spc="-1" strike="noStrike">
                <a:solidFill>
                  <a:srgbClr val="000000"/>
                </a:solidFill>
                <a:latin typeface="Arial"/>
              </a:defRPr>
            </a:pPr>
            <a:r>
              <a:rPr b="0" sz="1107" spc="-1" strike="noStrike">
                <a:solidFill>
                  <a:srgbClr val="000000"/>
                </a:solidFill>
                <a:latin typeface="Arial"/>
              </a:rPr>
              <a:t>EEJMA VESPERTINO</a:t>
            </a:r>
          </a:p>
        </c:rich>
      </c:tx>
      <c:layout>
        <c:manualLayout>
          <c:xMode val="edge"/>
          <c:yMode val="edge"/>
          <c:x val="0.417677492282944"/>
          <c:y val="0.019864018130915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6541019956"/>
          <c:y val="0.136915077989601"/>
          <c:w val="0.959958262684231"/>
          <c:h val="0.8426876416477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0</c:v>
                </c:pt>
                <c:pt idx="2">
                  <c:v>14</c:v>
                </c:pt>
                <c:pt idx="3">
                  <c:v>8</c:v>
                </c:pt>
                <c:pt idx="4">
                  <c:v>2</c:v>
                </c:pt>
                <c:pt idx="5">
                  <c:v>6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</c:v>
                </c:pt>
                <c:pt idx="1">
                  <c:v>3</c:v>
                </c:pt>
                <c:pt idx="2">
                  <c:v>9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5</c:v>
                </c:pt>
              </c:numCache>
            </c:numRef>
          </c:val>
        </c:ser>
        <c:gapWidth val="100"/>
        <c:overlap val="0"/>
        <c:axId val="2534606"/>
        <c:axId val="12435582"/>
      </c:barChart>
      <c:catAx>
        <c:axId val="253460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35582"/>
        <c:crossesAt val="0"/>
        <c:auto val="1"/>
        <c:lblAlgn val="ctr"/>
        <c:lblOffset val="100"/>
        <c:noMultiLvlLbl val="0"/>
      </c:catAx>
      <c:valAx>
        <c:axId val="12435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460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55" spc="-1" strike="noStrike">
                <a:solidFill>
                  <a:srgbClr val="000000"/>
                </a:solidFill>
                <a:latin typeface="Arial"/>
              </a:defRPr>
            </a:pPr>
            <a:r>
              <a:rPr b="0" sz="955" spc="-1" strike="noStrike">
                <a:solidFill>
                  <a:srgbClr val="000000"/>
                </a:solidFill>
                <a:latin typeface="Arial"/>
              </a:rPr>
              <a:t>EEAJMA NOTURNO</a:t>
            </a:r>
          </a:p>
        </c:rich>
      </c:tx>
      <c:layout>
        <c:manualLayout>
          <c:xMode val="edge"/>
          <c:yMode val="edge"/>
          <c:x val="0.43580293980599"/>
          <c:y val="0.020130649246767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40695556403"/>
          <c:y val="0.123183575523264"/>
          <c:w val="0.959969500571864"/>
          <c:h val="0.85641914411411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8</c:v>
                </c:pt>
                <c:pt idx="3">
                  <c:v>2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52173913043478</c:v>
                </c:pt>
                <c:pt idx="1">
                  <c:v>1.52173913043478</c:v>
                </c:pt>
                <c:pt idx="2">
                  <c:v>7.60869565217391</c:v>
                </c:pt>
                <c:pt idx="3">
                  <c:v>6.08695652173913</c:v>
                </c:pt>
                <c:pt idx="4">
                  <c:v>4.56521739130435</c:v>
                </c:pt>
                <c:pt idx="5">
                  <c:v>4.56521739130435</c:v>
                </c:pt>
                <c:pt idx="6">
                  <c:v>4.56521739130435</c:v>
                </c:pt>
                <c:pt idx="7">
                  <c:v>4.5652173913043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7342673"/>
        <c:axId val="38184253"/>
      </c:barChart>
      <c:catAx>
        <c:axId val="973426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84253"/>
        <c:crossesAt val="0"/>
        <c:auto val="1"/>
        <c:lblAlgn val="ctr"/>
        <c:lblOffset val="100"/>
        <c:noMultiLvlLbl val="0"/>
      </c:catAx>
      <c:valAx>
        <c:axId val="38184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4267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0" spc="-1" strike="noStrike">
                <a:solidFill>
                  <a:srgbClr val="000000"/>
                </a:solidFill>
                <a:latin typeface="Arial"/>
              </a:defRPr>
            </a:pPr>
            <a:r>
              <a:rPr b="0" sz="910" spc="-1" strike="noStrike">
                <a:solidFill>
                  <a:srgbClr val="000000"/>
                </a:solidFill>
                <a:latin typeface="Arial"/>
              </a:rPr>
              <a:t>EEAJMA NOTURNO</a:t>
            </a:r>
          </a:p>
        </c:rich>
      </c:tx>
      <c:layout>
        <c:manualLayout>
          <c:xMode val="edge"/>
          <c:yMode val="edge"/>
          <c:x val="0.435758410737301"/>
          <c:y val="0.019864018130915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23050259965338"/>
          <c:w val="0.959957335229545"/>
          <c:h val="0.8566857752299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47826086956522</c:v>
                </c:pt>
                <c:pt idx="1">
                  <c:v>1.47826086956522</c:v>
                </c:pt>
                <c:pt idx="2">
                  <c:v>7.39130434782609</c:v>
                </c:pt>
                <c:pt idx="3">
                  <c:v>5.91304347826087</c:v>
                </c:pt>
                <c:pt idx="4">
                  <c:v>4.43478260869565</c:v>
                </c:pt>
                <c:pt idx="5">
                  <c:v>4.43478260869565</c:v>
                </c:pt>
                <c:pt idx="6">
                  <c:v>4.43478260869565</c:v>
                </c:pt>
                <c:pt idx="7">
                  <c:v>4.4347826086956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4179087"/>
        <c:axId val="14607122"/>
      </c:barChart>
      <c:catAx>
        <c:axId val="4417908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07122"/>
        <c:crossesAt val="0"/>
        <c:auto val="1"/>
        <c:lblAlgn val="ctr"/>
        <c:lblOffset val="100"/>
        <c:noMultiLvlLbl val="0"/>
      </c:catAx>
      <c:valAx>
        <c:axId val="14607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7908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EEAJMA NOTURNO</a:t>
            </a:r>
          </a:p>
        </c:rich>
      </c:tx>
      <c:layout>
        <c:manualLayout>
          <c:xMode val="edge"/>
          <c:yMode val="edge"/>
          <c:x val="0.423670059108484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36857892763405"/>
          <c:w val="0.959957335229545"/>
          <c:h val="0.842644669416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1</c:v>
                </c:pt>
                <c:pt idx="5">
                  <c:v>0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56521739130435</c:v>
                </c:pt>
                <c:pt idx="1">
                  <c:v>1.56521739130435</c:v>
                </c:pt>
                <c:pt idx="2">
                  <c:v>7.82608695652174</c:v>
                </c:pt>
                <c:pt idx="3">
                  <c:v>6.26086956521739</c:v>
                </c:pt>
                <c:pt idx="4">
                  <c:v>4.69565217391304</c:v>
                </c:pt>
                <c:pt idx="5">
                  <c:v>4.69565217391304</c:v>
                </c:pt>
                <c:pt idx="6">
                  <c:v>4.69565217391304</c:v>
                </c:pt>
                <c:pt idx="7">
                  <c:v>4.6956521739130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7531866"/>
        <c:axId val="49371028"/>
      </c:barChart>
      <c:catAx>
        <c:axId val="1753186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1028"/>
        <c:crossesAt val="0"/>
        <c:auto val="1"/>
        <c:lblAlgn val="ctr"/>
        <c:lblOffset val="100"/>
        <c:noMultiLvlLbl val="0"/>
      </c:catAx>
      <c:valAx>
        <c:axId val="49371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3186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EEAJMA NOTURNO</a:t>
            </a:r>
          </a:p>
        </c:rich>
      </c:tx>
      <c:layout>
        <c:manualLayout>
          <c:xMode val="edge"/>
          <c:yMode val="edge"/>
          <c:x val="0.423670059108484"/>
          <c:y val="0.019864018130915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3664844687375"/>
          <c:w val="0.959957335229545"/>
          <c:h val="0.84308758832155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1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39130434782609</c:v>
                </c:pt>
                <c:pt idx="1">
                  <c:v>1.39130434782609</c:v>
                </c:pt>
                <c:pt idx="2">
                  <c:v>6.95652173913043</c:v>
                </c:pt>
                <c:pt idx="3">
                  <c:v>5.56521739130435</c:v>
                </c:pt>
                <c:pt idx="4">
                  <c:v>4.17391304347826</c:v>
                </c:pt>
                <c:pt idx="5">
                  <c:v>4.17391304347826</c:v>
                </c:pt>
                <c:pt idx="6">
                  <c:v>4.17391304347826</c:v>
                </c:pt>
                <c:pt idx="7">
                  <c:v>4.1739130434782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0529011"/>
        <c:axId val="76243983"/>
      </c:barChart>
      <c:catAx>
        <c:axId val="505290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43983"/>
        <c:crossesAt val="0"/>
        <c:auto val="1"/>
        <c:lblAlgn val="ctr"/>
        <c:lblOffset val="100"/>
        <c:noMultiLvlLbl val="0"/>
      </c:catAx>
      <c:valAx>
        <c:axId val="76243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2901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B8A-B4ED-4808-8773-76D1F0C9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AAA-723A-4B2B-ABAB-6D9B4D7A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84E-6A29-438B-B1AA-BC4CE374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C10-D5C5-4E88-BB0D-238C70CC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E1B-FA3C-4C09-A534-218C0DD9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375-0E61-48B5-9BD4-90D6A847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245-3535-48F4-95E2-551DB9C3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5D6-B5F1-49D8-848D-E6824745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FAE-5130-4F42-B29A-DFB992D8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E5F-E72D-437D-B5E0-31623DA2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348-2E48-4012-BB28-B23F6A82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463-9E05-4D39-892B-A410C49D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636444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36444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2F99-BC62-4F90-94E8-29248BD834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4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5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6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7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8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cronograma%20de%20a&#231;&#227;o%20das%20escolas/cronograma%20-%20Euz&#233;bio%20-%20EEAJMA.doc" TargetMode="External"/><Relationship Id="rId2" Type="http://schemas.openxmlformats.org/officeDocument/2006/relationships/hyperlink" Target="file:///../cronograma%20de%20a&#231;&#227;o%20das%20escolas/cronograma%20-%20Gisele%20-%20EEAJMA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1213920"/>
            <a:ext cx="64818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E ANTONIO JOAQUIM DE MOURA ANDRADE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VA ANDRADINA - 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68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CaixaDeTexto 4"/>
          <p:cNvSpPr/>
          <p:nvPr/>
        </p:nvSpPr>
        <p:spPr>
          <a:xfrm>
            <a:off x="1500120" y="4500720"/>
            <a:ext cx="30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429160" y="46432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8"/>
          <p:cNvGraphicFramePr/>
          <p:nvPr/>
        </p:nvGraphicFramePr>
        <p:xfrm>
          <a:off x="0" y="1571760"/>
          <a:ext cx="7129440" cy="2325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5" name="CaixaDeTexto 10"/>
          <p:cNvSpPr/>
          <p:nvPr/>
        </p:nvSpPr>
        <p:spPr>
          <a:xfrm>
            <a:off x="428760" y="485784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9"/>
          <p:cNvGraphicFramePr/>
          <p:nvPr/>
        </p:nvGraphicFramePr>
        <p:xfrm>
          <a:off x="500040" y="428616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42861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GIS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500800" y="45007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571680" y="1714680"/>
          <a:ext cx="6786360" cy="270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36" name="CaixaDeTexto 10"/>
          <p:cNvSpPr/>
          <p:nvPr/>
        </p:nvSpPr>
        <p:spPr>
          <a:xfrm>
            <a:off x="1428840" y="5000760"/>
            <a:ext cx="214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8"/>
          <p:cNvGraphicFramePr/>
          <p:nvPr/>
        </p:nvGraphicFramePr>
        <p:xfrm>
          <a:off x="1143000" y="4643280"/>
          <a:ext cx="3811680" cy="144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64328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643720" y="471492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7"/>
          <p:cNvGraphicFramePr/>
          <p:nvPr/>
        </p:nvGraphicFramePr>
        <p:xfrm>
          <a:off x="142920" y="1643040"/>
          <a:ext cx="7129440" cy="237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3" name="CaixaDeTexto 8"/>
          <p:cNvSpPr/>
          <p:nvPr/>
        </p:nvSpPr>
        <p:spPr>
          <a:xfrm>
            <a:off x="857160" y="4643280"/>
            <a:ext cx="3786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8"/>
          <p:cNvGraphicFramePr/>
          <p:nvPr/>
        </p:nvGraphicFramePr>
        <p:xfrm>
          <a:off x="1000080" y="450072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5007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aixaDeTexto 4"/>
          <p:cNvSpPr/>
          <p:nvPr/>
        </p:nvSpPr>
        <p:spPr>
          <a:xfrm>
            <a:off x="1571760" y="4572000"/>
            <a:ext cx="235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643720" y="457200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8"/>
          <p:cNvGraphicFramePr/>
          <p:nvPr/>
        </p:nvGraphicFramePr>
        <p:xfrm>
          <a:off x="142920" y="164304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1" name="CaixaDeTexto 9"/>
          <p:cNvSpPr/>
          <p:nvPr/>
        </p:nvSpPr>
        <p:spPr>
          <a:xfrm>
            <a:off x="714240" y="4786200"/>
            <a:ext cx="3000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9"/>
          <p:cNvGraphicFramePr/>
          <p:nvPr/>
        </p:nvGraphicFramePr>
        <p:xfrm>
          <a:off x="714240" y="450072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5007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aixaDeTexto 4"/>
          <p:cNvSpPr/>
          <p:nvPr/>
        </p:nvSpPr>
        <p:spPr>
          <a:xfrm>
            <a:off x="1643040" y="442908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572080" y="46432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8"/>
          <p:cNvGraphicFramePr/>
          <p:nvPr/>
        </p:nvGraphicFramePr>
        <p:xfrm>
          <a:off x="142920" y="1643040"/>
          <a:ext cx="7129440" cy="237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9" name="CaixaDeTexto 9"/>
          <p:cNvSpPr/>
          <p:nvPr/>
        </p:nvSpPr>
        <p:spPr>
          <a:xfrm>
            <a:off x="1000080" y="4572000"/>
            <a:ext cx="3214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9"/>
          <p:cNvGraphicFramePr/>
          <p:nvPr/>
        </p:nvGraphicFramePr>
        <p:xfrm>
          <a:off x="714240" y="44290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4290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unca utilizaram: (nenhu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utilizaram: (Port / G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ociosas: 20,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utilizadas: 79,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No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unca utilizaram: (artes/ Inglê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utilizaram: (Portuguê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ociosas: 83,8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utilizadas: 16,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ixaDeTexto 4"/>
          <p:cNvSpPr/>
          <p:nvPr/>
        </p:nvSpPr>
        <p:spPr>
          <a:xfrm>
            <a:off x="2643120" y="5500800"/>
            <a:ext cx="3571920" cy="580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Notu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LGUNS PONTOS PARA REFLETIR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INUAR ATENTAS ÀS DATAS PREVISTAS PARA TÉRMINO DAS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BÉNS PELO COMPROMISSO ASSUMIDO JUNTO À ESCO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GIRO PARA O 2º SEMESTRE ATENÇÃO ESPECIAL A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FESSORES AUSE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STE NO 1º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REFLEXÃ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as ações que foram desenvolvidas p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fessores multiplicadores (NTE – STE) no 1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, analisar e refletir a respeito do uso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TE da escola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cronograma de ações do 2º semestr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Welitt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rientar na elaboração do cronograma de ações 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fessores da STE no 2º semestre para form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 loco; (Welitt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 e jun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4. Pontos a refleti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5. Apresentar e discutir cronograma de ações NTE/STE para o 2º semestre; (Welitt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Euzé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o plano de ação - Gis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ço Reservado para Rodapé 2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EUZÉ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57880" y="47149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95280" y="1571400"/>
            <a:ext cx="7129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7"/>
          <p:cNvGraphicFramePr/>
          <p:nvPr/>
        </p:nvGraphicFramePr>
        <p:xfrm>
          <a:off x="142920" y="1571760"/>
          <a:ext cx="69292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00" name="CaixaDeTexto 9"/>
          <p:cNvSpPr/>
          <p:nvPr/>
        </p:nvSpPr>
        <p:spPr>
          <a:xfrm>
            <a:off x="4429080" y="3000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10"/>
          <p:cNvSpPr/>
          <p:nvPr/>
        </p:nvSpPr>
        <p:spPr>
          <a:xfrm>
            <a:off x="1071720" y="500076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8"/>
          <p:cNvGraphicFramePr/>
          <p:nvPr/>
        </p:nvGraphicFramePr>
        <p:xfrm>
          <a:off x="1000080" y="471492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7149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357880" y="457200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7"/>
          <p:cNvGraphicFramePr/>
          <p:nvPr/>
        </p:nvGraphicFramePr>
        <p:xfrm>
          <a:off x="0" y="164304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08" name="CaixaDeTexto 8"/>
          <p:cNvSpPr/>
          <p:nvPr/>
        </p:nvSpPr>
        <p:spPr>
          <a:xfrm>
            <a:off x="1071720" y="492912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8"/>
          <p:cNvGraphicFramePr/>
          <p:nvPr/>
        </p:nvGraphicFramePr>
        <p:xfrm>
          <a:off x="928800" y="4500720"/>
          <a:ext cx="381132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450072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aixaDeTexto 4"/>
          <p:cNvSpPr/>
          <p:nvPr/>
        </p:nvSpPr>
        <p:spPr>
          <a:xfrm>
            <a:off x="1214280" y="478620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57880" y="45007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5712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500040" y="1785960"/>
          <a:ext cx="6643800" cy="2786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17" name="CaixaDeTexto 11"/>
          <p:cNvSpPr/>
          <p:nvPr/>
        </p:nvSpPr>
        <p:spPr>
          <a:xfrm>
            <a:off x="1143000" y="5000760"/>
            <a:ext cx="2786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9"/>
          <p:cNvGraphicFramePr/>
          <p:nvPr/>
        </p:nvGraphicFramePr>
        <p:xfrm>
          <a:off x="857160" y="471492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47149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26:23Z</dcterms:created>
  <dc:creator>Luciana Catarino</dc:creator>
  <dc:description/>
  <dc:language>en-US</dc:language>
  <cp:lastModifiedBy>Luciana Catarino</cp:lastModifiedBy>
  <dcterms:modified xsi:type="dcterms:W3CDTF">2009-07-11T00:52:14Z</dcterms:modified>
  <cp:revision>24</cp:revision>
  <dc:subject/>
  <dc:title>EE PADRE ANCHIETA NOVA ANDRADINA - MS</dc:title>
</cp:coreProperties>
</file>